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930F-7B0F-4A01-9440-CE3BEF81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2E2-D641-4BAD-8E41-0F728086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0D9D-BEB3-45B6-BDDB-AF678E2A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B9F-1C4E-4567-BAC5-3B02F21D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861B-B258-4D6B-AB6E-4A37EBEE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F32-28B1-450F-9509-63101910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3658-272E-4DD4-BE4F-A5108CBB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27B2-D37F-48B8-B733-D1A62554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24F1-ACF7-46B8-A744-9BB67FB3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5A75-6D99-4408-B64C-BC4FB0C5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9D2C-F80A-45E3-A739-B5DE7349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3377-B1A5-44B4-9695-CF4DC478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7EFE-28C4-4009-A442-6E0B022CE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514600"/>
            <a:ext cx="6705360" cy="358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Network Security and Remote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, Intranet, and Extranet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PN and IP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ew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28600" y="304920"/>
          <a:ext cx="327672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3276720" cy="2209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733920" y="1219320"/>
          <a:ext cx="60948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219320"/>
                    <a:ext cx="6094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7010280" y="3886200"/>
            <a:ext cx="755640" cy="743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533520" y="5029200"/>
            <a:ext cx="755640" cy="74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6172200" y="4191120"/>
          <a:ext cx="647640" cy="44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4191120"/>
                    <a:ext cx="64764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200400" y="2438280"/>
            <a:ext cx="2743200" cy="327672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Intra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CP/IP Netwo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4640" y="8906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562720" y="1981080"/>
            <a:ext cx="989640" cy="990360"/>
            <a:chOff x="5562720" y="1981080"/>
            <a:chExt cx="989640" cy="990360"/>
          </a:xfrm>
        </p:grpSpPr>
        <p:sp>
          <p:nvSpPr>
            <p:cNvPr id="104" name=""/>
            <p:cNvSpPr/>
            <p:nvPr/>
          </p:nvSpPr>
          <p:spPr>
            <a:xfrm>
              <a:off x="5562720" y="1998000"/>
              <a:ext cx="989640" cy="97308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37240" y="1981080"/>
              <a:ext cx="844560" cy="99036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49160" y="2116440"/>
              <a:ext cx="208080" cy="421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64960" y="2054520"/>
              <a:ext cx="63000" cy="1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66800" y="2116440"/>
              <a:ext cx="230040" cy="39600"/>
            </a:xfrm>
            <a:custGeom>
              <a:avLst/>
              <a:gdLst/>
              <a:ahLst/>
              <a:rect l="l" t="t" r="r" b="b"/>
              <a:pathLst>
                <a:path w="128" h="29">
                  <a:moveTo>
                    <a:pt x="0" y="24"/>
                  </a:moveTo>
                  <a:lnTo>
                    <a:pt x="98" y="24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close/>
                  <a:moveTo>
                    <a:pt x="109" y="29"/>
                  </a:moveTo>
                  <a:lnTo>
                    <a:pt x="128" y="29"/>
                  </a:lnTo>
                  <a:lnTo>
                    <a:pt x="128" y="0"/>
                  </a:lnTo>
                  <a:lnTo>
                    <a:pt x="109" y="0"/>
                  </a:lnTo>
                  <a:lnTo>
                    <a:pt x="109" y="29"/>
                  </a:lnTo>
                  <a:lnTo>
                    <a:pt x="10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364440" y="2181240"/>
              <a:ext cx="32040" cy="288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364440" y="2167200"/>
              <a:ext cx="32040" cy="288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17840" y="2262960"/>
              <a:ext cx="278640" cy="28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17840" y="2252160"/>
              <a:ext cx="278640" cy="25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17840" y="2232360"/>
              <a:ext cx="278640" cy="25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17840" y="2220840"/>
              <a:ext cx="278640" cy="28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17840" y="2201040"/>
              <a:ext cx="278640" cy="28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17840" y="2190240"/>
              <a:ext cx="278640" cy="25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64960" y="1998000"/>
              <a:ext cx="159480" cy="2484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37240" y="2043000"/>
              <a:ext cx="840600" cy="28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44440" y="2892600"/>
              <a:ext cx="822960" cy="1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44440" y="2756880"/>
              <a:ext cx="822960" cy="8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44440" y="2737080"/>
              <a:ext cx="822960" cy="8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44440" y="2714760"/>
              <a:ext cx="822960" cy="1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44440" y="2590560"/>
              <a:ext cx="822960" cy="1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44440" y="2568240"/>
              <a:ext cx="822960" cy="1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44440" y="2548440"/>
              <a:ext cx="822960" cy="8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44440" y="2525400"/>
              <a:ext cx="822960" cy="11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44440" y="2410200"/>
              <a:ext cx="822960" cy="1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44440" y="2390400"/>
              <a:ext cx="822960" cy="1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44440" y="2367360"/>
              <a:ext cx="822960" cy="11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44440" y="2345040"/>
              <a:ext cx="822960" cy="14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44440" y="2252160"/>
              <a:ext cx="391680" cy="14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44440" y="2232360"/>
              <a:ext cx="391680" cy="1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44440" y="2209320"/>
              <a:ext cx="391680" cy="11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44440" y="2190240"/>
              <a:ext cx="391680" cy="1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44440" y="2167200"/>
              <a:ext cx="391680" cy="14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44440" y="2147400"/>
              <a:ext cx="391680" cy="8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44440" y="2116440"/>
              <a:ext cx="391680" cy="11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44440" y="2094120"/>
              <a:ext cx="391680" cy="1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75400" y="1998000"/>
              <a:ext cx="237240" cy="67680"/>
            </a:xfrm>
            <a:custGeom>
              <a:avLst/>
              <a:gdLst/>
              <a:ahLst/>
              <a:rect l="l" t="t" r="r" b="b"/>
              <a:pathLst>
                <a:path w="135" h="46">
                  <a:moveTo>
                    <a:pt x="0" y="15"/>
                  </a:moveTo>
                  <a:lnTo>
                    <a:pt x="19" y="15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15"/>
                  </a:lnTo>
                  <a:close/>
                  <a:moveTo>
                    <a:pt x="43" y="46"/>
                  </a:moveTo>
                  <a:lnTo>
                    <a:pt x="60" y="46"/>
                  </a:lnTo>
                  <a:lnTo>
                    <a:pt x="60" y="31"/>
                  </a:lnTo>
                  <a:lnTo>
                    <a:pt x="43" y="31"/>
                  </a:lnTo>
                  <a:lnTo>
                    <a:pt x="43" y="46"/>
                  </a:lnTo>
                  <a:lnTo>
                    <a:pt x="43" y="46"/>
                  </a:lnTo>
                  <a:close/>
                  <a:moveTo>
                    <a:pt x="71" y="46"/>
                  </a:moveTo>
                  <a:lnTo>
                    <a:pt x="83" y="46"/>
                  </a:lnTo>
                  <a:lnTo>
                    <a:pt x="83" y="31"/>
                  </a:lnTo>
                  <a:lnTo>
                    <a:pt x="71" y="31"/>
                  </a:lnTo>
                  <a:lnTo>
                    <a:pt x="71" y="46"/>
                  </a:lnTo>
                  <a:lnTo>
                    <a:pt x="71" y="46"/>
                  </a:lnTo>
                  <a:close/>
                  <a:moveTo>
                    <a:pt x="94" y="46"/>
                  </a:moveTo>
                  <a:lnTo>
                    <a:pt x="112" y="46"/>
                  </a:lnTo>
                  <a:lnTo>
                    <a:pt x="112" y="31"/>
                  </a:lnTo>
                  <a:lnTo>
                    <a:pt x="94" y="31"/>
                  </a:lnTo>
                  <a:lnTo>
                    <a:pt x="94" y="46"/>
                  </a:lnTo>
                  <a:lnTo>
                    <a:pt x="94" y="46"/>
                  </a:lnTo>
                  <a:close/>
                  <a:moveTo>
                    <a:pt x="123" y="46"/>
                  </a:moveTo>
                  <a:lnTo>
                    <a:pt x="135" y="46"/>
                  </a:lnTo>
                  <a:lnTo>
                    <a:pt x="135" y="31"/>
                  </a:lnTo>
                  <a:lnTo>
                    <a:pt x="123" y="31"/>
                  </a:lnTo>
                  <a:lnTo>
                    <a:pt x="123" y="46"/>
                  </a:lnTo>
                  <a:lnTo>
                    <a:pt x="123" y="4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6240" y="2094120"/>
              <a:ext cx="321120" cy="19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781680" y="2133720"/>
            <a:ext cx="1143000" cy="685800"/>
          </a:xfrm>
          <a:prstGeom prst="flowChartMagneticDisk">
            <a:avLst/>
          </a:prstGeom>
          <a:gradFill rotWithShape="0">
            <a:gsLst>
              <a:gs pos="0">
                <a:srgbClr val="fafcff"/>
              </a:gs>
              <a:gs pos="100000">
                <a:srgbClr val="a9c1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240" y="157644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Main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48769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4800600"/>
            <a:ext cx="2286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7712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674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8001000" y="3886200"/>
            <a:ext cx="755640" cy="7430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4582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14280" y="506736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15000" y="3124080"/>
            <a:ext cx="2286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2362320"/>
            <a:ext cx="2286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8120" y="5867280"/>
            <a:ext cx="2286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27160" y="955800"/>
            <a:ext cx="11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37200" y="575316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895480" y="4648320"/>
            <a:ext cx="380520" cy="456480"/>
            <a:chOff x="2895480" y="4648320"/>
            <a:chExt cx="380520" cy="456480"/>
          </a:xfrm>
        </p:grpSpPr>
        <p:grpSp>
          <p:nvGrpSpPr>
            <p:cNvPr id="160" name=""/>
            <p:cNvGrpSpPr/>
            <p:nvPr/>
          </p:nvGrpSpPr>
          <p:grpSpPr>
            <a:xfrm>
              <a:off x="2898360" y="4650480"/>
              <a:ext cx="377640" cy="454320"/>
              <a:chOff x="2898360" y="4650480"/>
              <a:chExt cx="377640" cy="454320"/>
            </a:xfrm>
          </p:grpSpPr>
          <p:sp>
            <p:nvSpPr>
              <p:cNvPr id="161" name=""/>
              <p:cNvSpPr/>
              <p:nvPr/>
            </p:nvSpPr>
            <p:spPr>
              <a:xfrm>
                <a:off x="3252600" y="4650480"/>
                <a:ext cx="22320" cy="453600"/>
              </a:xfrm>
              <a:custGeom>
                <a:avLst/>
                <a:gdLst/>
                <a:ahLst/>
                <a:rect l="l" t="t" r="r" b="b"/>
                <a:pathLst>
                  <a:path w="90" h="1469">
                    <a:moveTo>
                      <a:pt x="0" y="114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9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252600" y="4651560"/>
                <a:ext cx="23400" cy="453240"/>
              </a:xfrm>
              <a:custGeom>
                <a:avLst/>
                <a:gdLst/>
                <a:ahLst/>
                <a:rect l="l" t="t" r="r" b="b"/>
                <a:pathLst>
                  <a:path w="90" h="1468">
                    <a:moveTo>
                      <a:pt x="0" y="113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8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898360" y="4682520"/>
                <a:ext cx="354240" cy="422280"/>
              </a:xfrm>
              <a:prstGeom prst="rect">
                <a:avLst/>
              </a:prstGeom>
              <a:solidFill>
                <a:srgbClr val="00000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898360" y="4651560"/>
                <a:ext cx="375840" cy="31680"/>
              </a:xfrm>
              <a:custGeom>
                <a:avLst/>
                <a:gdLst/>
                <a:ahLst/>
                <a:rect l="l" t="t" r="r" b="b"/>
                <a:pathLst>
                  <a:path w="1470" h="104">
                    <a:moveTo>
                      <a:pt x="0" y="104"/>
                    </a:moveTo>
                    <a:lnTo>
                      <a:pt x="90" y="0"/>
                    </a:lnTo>
                    <a:lnTo>
                      <a:pt x="1470" y="0"/>
                    </a:lnTo>
                    <a:lnTo>
                      <a:pt x="138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8360" y="4653000"/>
                <a:ext cx="376920" cy="32040"/>
              </a:xfrm>
              <a:custGeom>
                <a:avLst/>
                <a:gdLst/>
                <a:ahLst/>
                <a:rect l="l" t="t" r="r" b="b"/>
                <a:pathLst>
                  <a:path w="1470" h="103">
                    <a:moveTo>
                      <a:pt x="0" y="103"/>
                    </a:moveTo>
                    <a:lnTo>
                      <a:pt x="90" y="0"/>
                    </a:lnTo>
                    <a:lnTo>
                      <a:pt x="1470" y="0"/>
                    </a:lnTo>
                    <a:lnTo>
                      <a:pt x="1380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895480" y="4648320"/>
              <a:ext cx="378720" cy="454320"/>
              <a:chOff x="2895480" y="4648320"/>
              <a:chExt cx="378720" cy="454320"/>
            </a:xfrm>
          </p:grpSpPr>
          <p:sp>
            <p:nvSpPr>
              <p:cNvPr id="167" name=""/>
              <p:cNvSpPr/>
              <p:nvPr/>
            </p:nvSpPr>
            <p:spPr>
              <a:xfrm>
                <a:off x="3250800" y="4648320"/>
                <a:ext cx="22320" cy="453600"/>
              </a:xfrm>
              <a:custGeom>
                <a:avLst/>
                <a:gdLst/>
                <a:ahLst/>
                <a:rect l="l" t="t" r="r" b="b"/>
                <a:pathLst>
                  <a:path w="90" h="1469">
                    <a:moveTo>
                      <a:pt x="0" y="114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9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250800" y="4648320"/>
                <a:ext cx="23400" cy="453600"/>
              </a:xfrm>
              <a:custGeom>
                <a:avLst/>
                <a:gdLst/>
                <a:ahLst/>
                <a:rect l="l" t="t" r="r" b="b"/>
                <a:pathLst>
                  <a:path w="90" h="1468">
                    <a:moveTo>
                      <a:pt x="0" y="113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8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93936c"/>
              </a:solidFill>
              <a:ln w="144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896560" y="4679280"/>
                <a:ext cx="354240" cy="423360"/>
              </a:xfrm>
              <a:prstGeom prst="rect">
                <a:avLst/>
              </a:prstGeom>
              <a:solidFill>
                <a:srgbClr val="bab79d"/>
              </a:solidFill>
              <a:ln w="1440">
                <a:solidFill>
                  <a:srgbClr val="6262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897280" y="4896720"/>
                <a:ext cx="3531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2896560" y="4680360"/>
                <a:ext cx="353880" cy="421200"/>
                <a:chOff x="2896560" y="4680360"/>
                <a:chExt cx="353880" cy="4212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896560" y="4680360"/>
                  <a:ext cx="720" cy="42120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955600" y="4680360"/>
                  <a:ext cx="1080" cy="42120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014280" y="4680360"/>
                  <a:ext cx="720" cy="42120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073680" y="4680360"/>
                  <a:ext cx="720" cy="42120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132000" y="4680360"/>
                  <a:ext cx="720" cy="42120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191400" y="4680360"/>
                  <a:ext cx="720" cy="42120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249720" y="4680360"/>
                  <a:ext cx="720" cy="42120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2895480" y="4649400"/>
                <a:ext cx="376920" cy="32040"/>
              </a:xfrm>
              <a:custGeom>
                <a:avLst/>
                <a:gdLst/>
                <a:ahLst/>
                <a:rect l="l" t="t" r="r" b="b"/>
                <a:pathLst>
                  <a:path w="1475" h="104">
                    <a:moveTo>
                      <a:pt x="0" y="104"/>
                    </a:moveTo>
                    <a:lnTo>
                      <a:pt x="90" y="0"/>
                    </a:lnTo>
                    <a:lnTo>
                      <a:pt x="1475" y="0"/>
                    </a:lnTo>
                    <a:lnTo>
                      <a:pt x="1385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dbdb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895480" y="4649400"/>
                <a:ext cx="378000" cy="32040"/>
              </a:xfrm>
              <a:custGeom>
                <a:avLst/>
                <a:gdLst/>
                <a:ahLst/>
                <a:rect l="l" t="t" r="r" b="b"/>
                <a:pathLst>
                  <a:path w="1475" h="103">
                    <a:moveTo>
                      <a:pt x="0" y="103"/>
                    </a:moveTo>
                    <a:lnTo>
                      <a:pt x="90" y="0"/>
                    </a:lnTo>
                    <a:lnTo>
                      <a:pt x="1475" y="0"/>
                    </a:lnTo>
                    <a:lnTo>
                      <a:pt x="1385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dbdbce"/>
              </a:solidFill>
              <a:ln w="144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904480" y="490896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904480" y="491868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904480" y="492984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904480" y="494136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904480" y="495108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904480" y="496224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04480" y="497304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904480" y="498312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904480" y="499428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904480" y="500400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04480" y="501516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904480" y="502632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904480" y="503604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964240" y="490896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964240" y="491868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964240" y="492984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964240" y="494136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964240" y="495108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964240" y="496224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964240" y="497304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964240" y="498312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964240" y="499428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964240" y="500400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964240" y="501516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964240" y="502632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964240" y="503604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2944440" y="470736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 flipV="1">
            <a:off x="1219320" y="4876920"/>
            <a:ext cx="1676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819520" y="3657600"/>
            <a:ext cx="380160" cy="456480"/>
            <a:chOff x="2819520" y="3657600"/>
            <a:chExt cx="380160" cy="456480"/>
          </a:xfrm>
        </p:grpSpPr>
        <p:grpSp>
          <p:nvGrpSpPr>
            <p:cNvPr id="210" name=""/>
            <p:cNvGrpSpPr/>
            <p:nvPr/>
          </p:nvGrpSpPr>
          <p:grpSpPr>
            <a:xfrm>
              <a:off x="2822400" y="3659760"/>
              <a:ext cx="377280" cy="454320"/>
              <a:chOff x="2822400" y="3659760"/>
              <a:chExt cx="377280" cy="454320"/>
            </a:xfrm>
          </p:grpSpPr>
          <p:sp>
            <p:nvSpPr>
              <p:cNvPr id="211" name=""/>
              <p:cNvSpPr/>
              <p:nvPr/>
            </p:nvSpPr>
            <p:spPr>
              <a:xfrm>
                <a:off x="3176280" y="3659760"/>
                <a:ext cx="22320" cy="453600"/>
              </a:xfrm>
              <a:custGeom>
                <a:avLst/>
                <a:gdLst/>
                <a:ahLst/>
                <a:rect l="l" t="t" r="r" b="b"/>
                <a:pathLst>
                  <a:path w="90" h="1469">
                    <a:moveTo>
                      <a:pt x="0" y="114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9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176280" y="3660840"/>
                <a:ext cx="23400" cy="453240"/>
              </a:xfrm>
              <a:custGeom>
                <a:avLst/>
                <a:gdLst/>
                <a:ahLst/>
                <a:rect l="l" t="t" r="r" b="b"/>
                <a:pathLst>
                  <a:path w="90" h="1468">
                    <a:moveTo>
                      <a:pt x="0" y="113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8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822400" y="3691800"/>
                <a:ext cx="353880" cy="422280"/>
              </a:xfrm>
              <a:prstGeom prst="rect">
                <a:avLst/>
              </a:prstGeom>
              <a:solidFill>
                <a:srgbClr val="00000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822400" y="3660840"/>
                <a:ext cx="375480" cy="31680"/>
              </a:xfrm>
              <a:custGeom>
                <a:avLst/>
                <a:gdLst/>
                <a:ahLst/>
                <a:rect l="l" t="t" r="r" b="b"/>
                <a:pathLst>
                  <a:path w="1470" h="104">
                    <a:moveTo>
                      <a:pt x="0" y="104"/>
                    </a:moveTo>
                    <a:lnTo>
                      <a:pt x="90" y="0"/>
                    </a:lnTo>
                    <a:lnTo>
                      <a:pt x="1470" y="0"/>
                    </a:lnTo>
                    <a:lnTo>
                      <a:pt x="138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822400" y="3662280"/>
                <a:ext cx="376560" cy="32040"/>
              </a:xfrm>
              <a:custGeom>
                <a:avLst/>
                <a:gdLst/>
                <a:ahLst/>
                <a:rect l="l" t="t" r="r" b="b"/>
                <a:pathLst>
                  <a:path w="1470" h="103">
                    <a:moveTo>
                      <a:pt x="0" y="103"/>
                    </a:moveTo>
                    <a:lnTo>
                      <a:pt x="90" y="0"/>
                    </a:lnTo>
                    <a:lnTo>
                      <a:pt x="1470" y="0"/>
                    </a:lnTo>
                    <a:lnTo>
                      <a:pt x="1380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2819520" y="3657600"/>
              <a:ext cx="378360" cy="454320"/>
              <a:chOff x="2819520" y="3657600"/>
              <a:chExt cx="378360" cy="454320"/>
            </a:xfrm>
          </p:grpSpPr>
          <p:sp>
            <p:nvSpPr>
              <p:cNvPr id="217" name=""/>
              <p:cNvSpPr/>
              <p:nvPr/>
            </p:nvSpPr>
            <p:spPr>
              <a:xfrm>
                <a:off x="3174480" y="3657600"/>
                <a:ext cx="22320" cy="453600"/>
              </a:xfrm>
              <a:custGeom>
                <a:avLst/>
                <a:gdLst/>
                <a:ahLst/>
                <a:rect l="l" t="t" r="r" b="b"/>
                <a:pathLst>
                  <a:path w="90" h="1469">
                    <a:moveTo>
                      <a:pt x="0" y="114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9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174480" y="3657600"/>
                <a:ext cx="23400" cy="453600"/>
              </a:xfrm>
              <a:custGeom>
                <a:avLst/>
                <a:gdLst/>
                <a:ahLst/>
                <a:rect l="l" t="t" r="r" b="b"/>
                <a:pathLst>
                  <a:path w="90" h="1468">
                    <a:moveTo>
                      <a:pt x="0" y="113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8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93936c"/>
              </a:solidFill>
              <a:ln w="144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820600" y="3688560"/>
                <a:ext cx="353880" cy="423360"/>
              </a:xfrm>
              <a:prstGeom prst="rect">
                <a:avLst/>
              </a:prstGeom>
              <a:solidFill>
                <a:srgbClr val="bab79d"/>
              </a:solidFill>
              <a:ln w="1440">
                <a:solidFill>
                  <a:srgbClr val="6262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821320" y="3906000"/>
                <a:ext cx="35280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2820600" y="3689640"/>
                <a:ext cx="353520" cy="421200"/>
                <a:chOff x="2820600" y="3689640"/>
                <a:chExt cx="353520" cy="4212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820600" y="3689640"/>
                  <a:ext cx="720" cy="42120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879640" y="3689640"/>
                  <a:ext cx="1080" cy="42120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937960" y="3689640"/>
                  <a:ext cx="720" cy="42120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997720" y="3689640"/>
                  <a:ext cx="720" cy="42120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055680" y="3689640"/>
                  <a:ext cx="720" cy="42120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15080" y="3689640"/>
                  <a:ext cx="720" cy="42120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173400" y="3689640"/>
                  <a:ext cx="720" cy="42120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" name=""/>
              <p:cNvSpPr/>
              <p:nvPr/>
            </p:nvSpPr>
            <p:spPr>
              <a:xfrm>
                <a:off x="2819520" y="3658680"/>
                <a:ext cx="376560" cy="32040"/>
              </a:xfrm>
              <a:custGeom>
                <a:avLst/>
                <a:gdLst/>
                <a:ahLst/>
                <a:rect l="l" t="t" r="r" b="b"/>
                <a:pathLst>
                  <a:path w="1475" h="104">
                    <a:moveTo>
                      <a:pt x="0" y="104"/>
                    </a:moveTo>
                    <a:lnTo>
                      <a:pt x="90" y="0"/>
                    </a:lnTo>
                    <a:lnTo>
                      <a:pt x="1475" y="0"/>
                    </a:lnTo>
                    <a:lnTo>
                      <a:pt x="1385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dbdb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19520" y="3658680"/>
                <a:ext cx="377640" cy="32040"/>
              </a:xfrm>
              <a:custGeom>
                <a:avLst/>
                <a:gdLst/>
                <a:ahLst/>
                <a:rect l="l" t="t" r="r" b="b"/>
                <a:pathLst>
                  <a:path w="1475" h="103">
                    <a:moveTo>
                      <a:pt x="0" y="103"/>
                    </a:moveTo>
                    <a:lnTo>
                      <a:pt x="90" y="0"/>
                    </a:lnTo>
                    <a:lnTo>
                      <a:pt x="1475" y="0"/>
                    </a:lnTo>
                    <a:lnTo>
                      <a:pt x="1385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dbdbce"/>
              </a:solidFill>
              <a:ln w="144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828520" y="391824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828520" y="392796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828520" y="393912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828520" y="395064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828520" y="396036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828520" y="397152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828520" y="398232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828520" y="399240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828520" y="400356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828520" y="401328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828520" y="402444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28520" y="403560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28520" y="404532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887920" y="391824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887920" y="392796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887920" y="393912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887920" y="395064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887920" y="396036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887920" y="397152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887920" y="398232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887920" y="399240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87920" y="400356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887920" y="401328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887920" y="402444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887920" y="403560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887920" y="404532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2868480" y="371664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676520" y="358128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0"/>
          <a:stretch/>
        </p:blipFill>
        <p:spPr>
          <a:xfrm>
            <a:off x="4495680" y="1523880"/>
            <a:ext cx="755640" cy="7430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800960" y="111924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l Ser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9320" y="591984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053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52280" y="2743200"/>
          <a:ext cx="1752840" cy="106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2743200"/>
                    <a:ext cx="1752840" cy="106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671040" y="300996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048120" y="6172200"/>
            <a:ext cx="380160" cy="456480"/>
            <a:chOff x="3048120" y="6172200"/>
            <a:chExt cx="380160" cy="456480"/>
          </a:xfrm>
        </p:grpSpPr>
        <p:grpSp>
          <p:nvGrpSpPr>
            <p:cNvPr id="267" name=""/>
            <p:cNvGrpSpPr/>
            <p:nvPr/>
          </p:nvGrpSpPr>
          <p:grpSpPr>
            <a:xfrm>
              <a:off x="3051000" y="6174360"/>
              <a:ext cx="377280" cy="454320"/>
              <a:chOff x="3051000" y="6174360"/>
              <a:chExt cx="377280" cy="454320"/>
            </a:xfrm>
          </p:grpSpPr>
          <p:sp>
            <p:nvSpPr>
              <p:cNvPr id="268" name=""/>
              <p:cNvSpPr/>
              <p:nvPr/>
            </p:nvSpPr>
            <p:spPr>
              <a:xfrm>
                <a:off x="3404880" y="6174360"/>
                <a:ext cx="22320" cy="453600"/>
              </a:xfrm>
              <a:custGeom>
                <a:avLst/>
                <a:gdLst/>
                <a:ahLst/>
                <a:rect l="l" t="t" r="r" b="b"/>
                <a:pathLst>
                  <a:path w="90" h="1469">
                    <a:moveTo>
                      <a:pt x="0" y="114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9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404880" y="6175440"/>
                <a:ext cx="23400" cy="453240"/>
              </a:xfrm>
              <a:custGeom>
                <a:avLst/>
                <a:gdLst/>
                <a:ahLst/>
                <a:rect l="l" t="t" r="r" b="b"/>
                <a:pathLst>
                  <a:path w="90" h="1468">
                    <a:moveTo>
                      <a:pt x="0" y="113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8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051000" y="6206400"/>
                <a:ext cx="353880" cy="422280"/>
              </a:xfrm>
              <a:prstGeom prst="rect">
                <a:avLst/>
              </a:prstGeom>
              <a:solidFill>
                <a:srgbClr val="00000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051000" y="6175440"/>
                <a:ext cx="375480" cy="31680"/>
              </a:xfrm>
              <a:custGeom>
                <a:avLst/>
                <a:gdLst/>
                <a:ahLst/>
                <a:rect l="l" t="t" r="r" b="b"/>
                <a:pathLst>
                  <a:path w="1470" h="104">
                    <a:moveTo>
                      <a:pt x="0" y="104"/>
                    </a:moveTo>
                    <a:lnTo>
                      <a:pt x="90" y="0"/>
                    </a:lnTo>
                    <a:lnTo>
                      <a:pt x="1470" y="0"/>
                    </a:lnTo>
                    <a:lnTo>
                      <a:pt x="138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051000" y="6176880"/>
                <a:ext cx="376560" cy="32040"/>
              </a:xfrm>
              <a:custGeom>
                <a:avLst/>
                <a:gdLst/>
                <a:ahLst/>
                <a:rect l="l" t="t" r="r" b="b"/>
                <a:pathLst>
                  <a:path w="1470" h="103">
                    <a:moveTo>
                      <a:pt x="0" y="103"/>
                    </a:moveTo>
                    <a:lnTo>
                      <a:pt x="90" y="0"/>
                    </a:lnTo>
                    <a:lnTo>
                      <a:pt x="1470" y="0"/>
                    </a:lnTo>
                    <a:lnTo>
                      <a:pt x="1380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3048120" y="6172200"/>
              <a:ext cx="378360" cy="454320"/>
              <a:chOff x="3048120" y="6172200"/>
              <a:chExt cx="378360" cy="454320"/>
            </a:xfrm>
          </p:grpSpPr>
          <p:sp>
            <p:nvSpPr>
              <p:cNvPr id="274" name=""/>
              <p:cNvSpPr/>
              <p:nvPr/>
            </p:nvSpPr>
            <p:spPr>
              <a:xfrm>
                <a:off x="3403080" y="6172200"/>
                <a:ext cx="22320" cy="453600"/>
              </a:xfrm>
              <a:custGeom>
                <a:avLst/>
                <a:gdLst/>
                <a:ahLst/>
                <a:rect l="l" t="t" r="r" b="b"/>
                <a:pathLst>
                  <a:path w="90" h="1469">
                    <a:moveTo>
                      <a:pt x="0" y="114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9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03080" y="6172200"/>
                <a:ext cx="23400" cy="453600"/>
              </a:xfrm>
              <a:custGeom>
                <a:avLst/>
                <a:gdLst/>
                <a:ahLst/>
                <a:rect l="l" t="t" r="r" b="b"/>
                <a:pathLst>
                  <a:path w="90" h="1468">
                    <a:moveTo>
                      <a:pt x="0" y="113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8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93936c"/>
              </a:solidFill>
              <a:ln w="144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49200" y="6203160"/>
                <a:ext cx="353880" cy="423360"/>
              </a:xfrm>
              <a:prstGeom prst="rect">
                <a:avLst/>
              </a:prstGeom>
              <a:solidFill>
                <a:srgbClr val="bab79d"/>
              </a:solidFill>
              <a:ln w="1440">
                <a:solidFill>
                  <a:srgbClr val="6262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049920" y="6420600"/>
                <a:ext cx="35280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3049200" y="6204240"/>
                <a:ext cx="353520" cy="421200"/>
                <a:chOff x="3049200" y="6204240"/>
                <a:chExt cx="353520" cy="4212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3049200" y="6204240"/>
                  <a:ext cx="720" cy="42120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108240" y="6204240"/>
                  <a:ext cx="1080" cy="42120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166560" y="6204240"/>
                  <a:ext cx="720" cy="42120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226320" y="6204240"/>
                  <a:ext cx="720" cy="42120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284280" y="6204240"/>
                  <a:ext cx="720" cy="42120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343680" y="6204240"/>
                  <a:ext cx="720" cy="42120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402000" y="6204240"/>
                  <a:ext cx="720" cy="42120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6" name=""/>
              <p:cNvSpPr/>
              <p:nvPr/>
            </p:nvSpPr>
            <p:spPr>
              <a:xfrm>
                <a:off x="3048120" y="6173280"/>
                <a:ext cx="376560" cy="32040"/>
              </a:xfrm>
              <a:custGeom>
                <a:avLst/>
                <a:gdLst/>
                <a:ahLst/>
                <a:rect l="l" t="t" r="r" b="b"/>
                <a:pathLst>
                  <a:path w="1475" h="104">
                    <a:moveTo>
                      <a:pt x="0" y="104"/>
                    </a:moveTo>
                    <a:lnTo>
                      <a:pt x="90" y="0"/>
                    </a:lnTo>
                    <a:lnTo>
                      <a:pt x="1475" y="0"/>
                    </a:lnTo>
                    <a:lnTo>
                      <a:pt x="1385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dbdb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048120" y="6173280"/>
                <a:ext cx="377640" cy="32040"/>
              </a:xfrm>
              <a:custGeom>
                <a:avLst/>
                <a:gdLst/>
                <a:ahLst/>
                <a:rect l="l" t="t" r="r" b="b"/>
                <a:pathLst>
                  <a:path w="1475" h="103">
                    <a:moveTo>
                      <a:pt x="0" y="103"/>
                    </a:moveTo>
                    <a:lnTo>
                      <a:pt x="90" y="0"/>
                    </a:lnTo>
                    <a:lnTo>
                      <a:pt x="1475" y="0"/>
                    </a:lnTo>
                    <a:lnTo>
                      <a:pt x="1385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dbdbce"/>
              </a:solidFill>
              <a:ln w="144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057120" y="643284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57120" y="644256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057120" y="645372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057120" y="646524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057120" y="647496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057120" y="648612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57120" y="649692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57120" y="650700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57120" y="651816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57120" y="652788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057120" y="653904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57120" y="655020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057120" y="655992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16520" y="643284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116520" y="644256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116520" y="645372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116520" y="646524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116520" y="647496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116520" y="648612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116520" y="649692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116520" y="650700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116520" y="651816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116520" y="652788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116520" y="653904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116520" y="655020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116520" y="6559920"/>
                <a:ext cx="41760" cy="1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3097080" y="623124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581280" y="621648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Remote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/Dialup Mod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105000" y="-34920"/>
            <a:ext cx="47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rporate Network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80880" y="838080"/>
          <a:ext cx="327672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3276720" cy="2210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3886200" y="1752480"/>
          <a:ext cx="60948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752480"/>
                    <a:ext cx="6094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1" name="" descr=""/>
          <p:cNvPicPr/>
          <p:nvPr/>
        </p:nvPicPr>
        <p:blipFill>
          <a:blip r:embed="rId5"/>
          <a:stretch/>
        </p:blipFill>
        <p:spPr>
          <a:xfrm>
            <a:off x="7162920" y="4419720"/>
            <a:ext cx="755640" cy="7426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6"/>
          <a:stretch/>
        </p:blipFill>
        <p:spPr>
          <a:xfrm>
            <a:off x="2057400" y="4267080"/>
            <a:ext cx="755640" cy="74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3" name=""/>
          <p:cNvGraphicFramePr/>
          <p:nvPr/>
        </p:nvGraphicFramePr>
        <p:xfrm>
          <a:off x="6324480" y="4724280"/>
          <a:ext cx="648000" cy="44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24480" y="4724280"/>
                    <a:ext cx="6480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3352680" y="2971800"/>
            <a:ext cx="2743200" cy="327672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porate Intra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TCP/IP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89440" y="14479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791320" y="2514600"/>
            <a:ext cx="913680" cy="990360"/>
            <a:chOff x="5791320" y="2514600"/>
            <a:chExt cx="913680" cy="990360"/>
          </a:xfrm>
        </p:grpSpPr>
        <p:sp>
          <p:nvSpPr>
            <p:cNvPr id="328" name=""/>
            <p:cNvSpPr/>
            <p:nvPr/>
          </p:nvSpPr>
          <p:spPr>
            <a:xfrm>
              <a:off x="5791320" y="2531520"/>
              <a:ext cx="913680" cy="97308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60080" y="2514600"/>
              <a:ext cx="779760" cy="99036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32760" y="2649960"/>
              <a:ext cx="192240" cy="421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86000" y="2588040"/>
              <a:ext cx="58320" cy="1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49320" y="2649960"/>
              <a:ext cx="212400" cy="39600"/>
            </a:xfrm>
            <a:custGeom>
              <a:avLst/>
              <a:gdLst/>
              <a:ahLst/>
              <a:rect l="l" t="t" r="r" b="b"/>
              <a:pathLst>
                <a:path w="128" h="29">
                  <a:moveTo>
                    <a:pt x="0" y="24"/>
                  </a:moveTo>
                  <a:lnTo>
                    <a:pt x="98" y="24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close/>
                  <a:moveTo>
                    <a:pt x="109" y="29"/>
                  </a:moveTo>
                  <a:lnTo>
                    <a:pt x="128" y="29"/>
                  </a:lnTo>
                  <a:lnTo>
                    <a:pt x="128" y="0"/>
                  </a:lnTo>
                  <a:lnTo>
                    <a:pt x="109" y="0"/>
                  </a:lnTo>
                  <a:lnTo>
                    <a:pt x="109" y="29"/>
                  </a:lnTo>
                  <a:lnTo>
                    <a:pt x="10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6531840" y="2714760"/>
              <a:ext cx="29520" cy="288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6531840" y="2700720"/>
              <a:ext cx="29520" cy="288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03960" y="2796480"/>
              <a:ext cx="257400" cy="28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03960" y="2785680"/>
              <a:ext cx="257400" cy="25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03960" y="2765880"/>
              <a:ext cx="257400" cy="25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03960" y="2754360"/>
              <a:ext cx="257400" cy="28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03960" y="2734560"/>
              <a:ext cx="257400" cy="28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03960" y="2723760"/>
              <a:ext cx="257400" cy="25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86000" y="2531520"/>
              <a:ext cx="147240" cy="2484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60080" y="2576520"/>
              <a:ext cx="776160" cy="28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66560" y="3426120"/>
              <a:ext cx="759960" cy="1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66560" y="3290400"/>
              <a:ext cx="759960" cy="8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66560" y="3270600"/>
              <a:ext cx="759960" cy="8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66560" y="3248280"/>
              <a:ext cx="759960" cy="1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66560" y="3124080"/>
              <a:ext cx="759960" cy="1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66560" y="3101760"/>
              <a:ext cx="759960" cy="1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66560" y="3081960"/>
              <a:ext cx="759960" cy="8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66560" y="3058920"/>
              <a:ext cx="759960" cy="11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66560" y="2943720"/>
              <a:ext cx="759960" cy="1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66560" y="2923920"/>
              <a:ext cx="759960" cy="1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66560" y="2900880"/>
              <a:ext cx="759960" cy="11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66560" y="2878560"/>
              <a:ext cx="759960" cy="14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66560" y="2785680"/>
              <a:ext cx="361800" cy="14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66560" y="2765880"/>
              <a:ext cx="361800" cy="1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66560" y="2742840"/>
              <a:ext cx="361800" cy="11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66560" y="2723760"/>
              <a:ext cx="361800" cy="1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66560" y="2700720"/>
              <a:ext cx="361800" cy="14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66560" y="2680920"/>
              <a:ext cx="361800" cy="8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866560" y="2649960"/>
              <a:ext cx="361800" cy="11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66560" y="2627640"/>
              <a:ext cx="361800" cy="1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95360" y="2531520"/>
              <a:ext cx="218880" cy="67680"/>
            </a:xfrm>
            <a:custGeom>
              <a:avLst/>
              <a:gdLst/>
              <a:ahLst/>
              <a:rect l="l" t="t" r="r" b="b"/>
              <a:pathLst>
                <a:path w="135" h="46">
                  <a:moveTo>
                    <a:pt x="0" y="15"/>
                  </a:moveTo>
                  <a:lnTo>
                    <a:pt x="19" y="15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15"/>
                  </a:lnTo>
                  <a:close/>
                  <a:moveTo>
                    <a:pt x="43" y="46"/>
                  </a:moveTo>
                  <a:lnTo>
                    <a:pt x="60" y="46"/>
                  </a:lnTo>
                  <a:lnTo>
                    <a:pt x="60" y="31"/>
                  </a:lnTo>
                  <a:lnTo>
                    <a:pt x="43" y="31"/>
                  </a:lnTo>
                  <a:lnTo>
                    <a:pt x="43" y="46"/>
                  </a:lnTo>
                  <a:lnTo>
                    <a:pt x="43" y="46"/>
                  </a:lnTo>
                  <a:close/>
                  <a:moveTo>
                    <a:pt x="71" y="46"/>
                  </a:moveTo>
                  <a:lnTo>
                    <a:pt x="83" y="46"/>
                  </a:lnTo>
                  <a:lnTo>
                    <a:pt x="83" y="31"/>
                  </a:lnTo>
                  <a:lnTo>
                    <a:pt x="71" y="31"/>
                  </a:lnTo>
                  <a:lnTo>
                    <a:pt x="71" y="46"/>
                  </a:lnTo>
                  <a:lnTo>
                    <a:pt x="71" y="46"/>
                  </a:lnTo>
                  <a:close/>
                  <a:moveTo>
                    <a:pt x="94" y="46"/>
                  </a:moveTo>
                  <a:lnTo>
                    <a:pt x="112" y="46"/>
                  </a:lnTo>
                  <a:lnTo>
                    <a:pt x="112" y="31"/>
                  </a:lnTo>
                  <a:lnTo>
                    <a:pt x="94" y="31"/>
                  </a:lnTo>
                  <a:lnTo>
                    <a:pt x="94" y="46"/>
                  </a:lnTo>
                  <a:lnTo>
                    <a:pt x="94" y="46"/>
                  </a:lnTo>
                  <a:close/>
                  <a:moveTo>
                    <a:pt x="123" y="46"/>
                  </a:moveTo>
                  <a:lnTo>
                    <a:pt x="135" y="46"/>
                  </a:lnTo>
                  <a:lnTo>
                    <a:pt x="135" y="31"/>
                  </a:lnTo>
                  <a:lnTo>
                    <a:pt x="123" y="31"/>
                  </a:lnTo>
                  <a:lnTo>
                    <a:pt x="123" y="46"/>
                  </a:lnTo>
                  <a:lnTo>
                    <a:pt x="123" y="4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284160" y="2627640"/>
              <a:ext cx="296640" cy="19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6934320" y="2666880"/>
            <a:ext cx="1143000" cy="685800"/>
          </a:xfrm>
          <a:prstGeom prst="flowChartMagneticDisk">
            <a:avLst/>
          </a:prstGeom>
          <a:gradFill rotWithShape="0">
            <a:gsLst>
              <a:gs pos="0">
                <a:srgbClr val="fafcff"/>
              </a:gs>
              <a:gs pos="100000">
                <a:srgbClr val="a9c1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9840" y="2133720"/>
            <a:ext cx="21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porate Main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0572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943600" y="541008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867280" y="5334120"/>
            <a:ext cx="2286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012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9"/>
          <a:stretch/>
        </p:blipFill>
        <p:spPr>
          <a:xfrm>
            <a:off x="8153280" y="4419720"/>
            <a:ext cx="755640" cy="7426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861048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67640" y="562464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porate 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9436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911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6400800"/>
            <a:ext cx="2286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79440" y="1488960"/>
            <a:ext cx="113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92000" y="6310440"/>
            <a:ext cx="95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19720" y="2362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0"/>
          <a:stretch/>
        </p:blipFill>
        <p:spPr>
          <a:xfrm>
            <a:off x="4648320" y="2057400"/>
            <a:ext cx="755640" cy="7430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4956480" y="167652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il Ser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057400" y="5029200"/>
            <a:ext cx="8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m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5760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304920" y="3276720"/>
          <a:ext cx="1447560" cy="106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4920" y="3276720"/>
                    <a:ext cx="1447560" cy="106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611280" y="3605040"/>
            <a:ext cx="82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528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14600" y="2971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04280" y="0"/>
            <a:ext cx="515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Corporate Network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porate Network with V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0" y="733320"/>
          <a:ext cx="922032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33320"/>
                    <a:ext cx="922032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380880" y="1135080"/>
          <a:ext cx="7848720" cy="562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35080"/>
                    <a:ext cx="784872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2038320" y="27000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net Security Example: AN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ewalls Overvie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324480" y="2133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5181120" y="2743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0" y="2743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0" y="21337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11160" y="1066680"/>
            <a:ext cx="2553480" cy="1008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al Home Fire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wo network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everything is che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00800" y="5105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257440" y="5562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934320" y="5562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343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09720" y="3505320"/>
            <a:ext cx="3582360" cy="1008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 Firewall (Packet filte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filtering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filtering traffic type (email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62840" y="4738680"/>
            <a:ext cx="874080" cy="39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294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3520" y="1386000"/>
            <a:ext cx="446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two networks are completely iso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ackets never transferred dir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may be repack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can run a proxy on the firewal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61800" y="2300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001720" y="5105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77640" y="5105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01720" y="2286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-13320" y="3809880"/>
            <a:ext cx="5583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two networks are completely iso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ackets can transfer directly through 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ome are sent to the firewall program e repack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Firewall can run a proxy for repackaging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5480" y="6019920"/>
            <a:ext cx="86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commercially available firewalls: Altavista, Borderware (secure computin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96080" cy="761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xies as Firewa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14720" y="2859120"/>
            <a:ext cx="1541520" cy="353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65800" y="2590920"/>
            <a:ext cx="1685880" cy="112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2895480"/>
            <a:ext cx="1508040" cy="287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297400" y="3189240"/>
            <a:ext cx="96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49120" y="2438280"/>
            <a:ext cx="121464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343400" y="3657600"/>
            <a:ext cx="910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257800" y="4952880"/>
            <a:ext cx="1371600" cy="76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521080" y="4349880"/>
            <a:ext cx="1288800" cy="14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09320" y="4405320"/>
            <a:ext cx="978480" cy="8204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9480" y="5257800"/>
            <a:ext cx="1270080" cy="1186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1981080" y="5867280"/>
            <a:ext cx="2210040" cy="76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25440" y="3809880"/>
            <a:ext cx="121464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27960" y="990720"/>
            <a:ext cx="600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xies sit between clients and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 as a server to client and vice 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for security, workload balance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xies as Firewa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 on behalf of a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a front-end to many cli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handle security (used as a firewall) but can introduce security threat also (client not authorized but uses a proxy to fake authoriz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ranslate requests (web to non-we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for c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provide anonimity to clients or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for workload balance (more than one ser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to filter requests and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Filtering Firewalls: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(v4) Packet  Forma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" y="1828800"/>
            <a:ext cx="8381880" cy="5029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132280" y="251460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29718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1295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83680" y="1295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6868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3520" y="23623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42680" y="1843200"/>
            <a:ext cx="220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ion and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1920" y="190512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08160" y="1905120"/>
            <a:ext cx="29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ngth of datagram (by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410080" y="1828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33280" y="2438280"/>
            <a:ext cx="290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gs and Fragment 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94280" y="304812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gmentation Control Fiel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520" y="35053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524600" y="350532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865480" y="3581280"/>
            <a:ext cx="205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er 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4038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1008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01360" y="419112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 IP addr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76240" y="480060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ination  IP addr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29240" y="525780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s and Pad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649400" y="579132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649400" y="63244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" y="45720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" y="5181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57200" y="5790960"/>
            <a:ext cx="8381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57200" y="6248160"/>
            <a:ext cx="8381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21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P Port Number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457200" y="-246240"/>
          <a:ext cx="7772400" cy="710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246240"/>
                    <a:ext cx="7772400" cy="710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986200" y="5811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95000" y="533520"/>
            <a:ext cx="2590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Dimilitarized Z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505320" y="2286000"/>
            <a:ext cx="1676160" cy="2954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A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Ser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(inclu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Log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57600" y="1066680"/>
            <a:ext cx="1371600" cy="762120"/>
          </a:xfrm>
          <a:prstGeom prst="can">
            <a:avLst>
              <a:gd name="adj" fmla="val 25000"/>
            </a:avLst>
          </a:prstGeom>
          <a:solidFill>
            <a:srgbClr val="00808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ML/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34120" y="3048120"/>
            <a:ext cx="1523880" cy="304560"/>
          </a:xfrm>
          <a:prstGeom prst="leftRightArrow">
            <a:avLst>
              <a:gd name="adj1" fmla="val 50000"/>
              <a:gd name="adj2" fmla="val 9960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0"/>
            <a:ext cx="807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6019560" y="762120"/>
            <a:ext cx="7596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91000" y="6506640"/>
            <a:ext cx="12913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162920" y="4724280"/>
            <a:ext cx="1828800" cy="16765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733920" y="5791320"/>
            <a:ext cx="1523880" cy="1066680"/>
          </a:xfrm>
          <a:prstGeom prst="can">
            <a:avLst>
              <a:gd name="adj" fmla="val 25000"/>
            </a:avLst>
          </a:prstGeom>
          <a:solidFill>
            <a:srgbClr val="00808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4800" y="1752480"/>
            <a:ext cx="380880" cy="381240"/>
          </a:xfrm>
          <a:prstGeom prst="upDownArrow">
            <a:avLst>
              <a:gd name="adj1" fmla="val 50000"/>
              <a:gd name="adj2" fmla="val 1992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91120" y="5181480"/>
            <a:ext cx="380880" cy="685800"/>
          </a:xfrm>
          <a:prstGeom prst="upDownArrow">
            <a:avLst>
              <a:gd name="adj1" fmla="val 50000"/>
              <a:gd name="adj2" fmla="val 3584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476400" y="685800"/>
            <a:ext cx="227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400800" y="1828800"/>
            <a:ext cx="190512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y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181480" y="2362320"/>
            <a:ext cx="1219320" cy="152280"/>
          </a:xfrm>
          <a:prstGeom prst="leftRightArrow">
            <a:avLst>
              <a:gd name="adj1" fmla="val 50000"/>
              <a:gd name="adj2" fmla="val 1594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781680" y="2895480"/>
            <a:ext cx="1219320" cy="87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153280" y="3124080"/>
            <a:ext cx="838440" cy="228600"/>
          </a:xfrm>
          <a:prstGeom prst="leftRightArrow">
            <a:avLst>
              <a:gd name="adj1" fmla="val 50000"/>
              <a:gd name="adj2" fmla="val 7301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543800" y="3886200"/>
            <a:ext cx="380880" cy="685800"/>
          </a:xfrm>
          <a:prstGeom prst="upDownArrow">
            <a:avLst>
              <a:gd name="adj1" fmla="val 50000"/>
              <a:gd name="adj2" fmla="val 3584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52480" y="91440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352160" y="6324120"/>
            <a:ext cx="12913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927360" cy="6033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731880" cy="57492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533520" y="2133720"/>
            <a:ext cx="2743200" cy="152280"/>
          </a:xfrm>
          <a:prstGeom prst="leftRightArrow">
            <a:avLst>
              <a:gd name="adj1" fmla="val 50000"/>
              <a:gd name="adj2" fmla="val 35861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066680" y="3124080"/>
            <a:ext cx="2362320" cy="228600"/>
          </a:xfrm>
          <a:prstGeom prst="leftRightArrow">
            <a:avLst>
              <a:gd name="adj1" fmla="val 50000"/>
              <a:gd name="adj2" fmla="val 20572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2640" y="762120"/>
            <a:ext cx="13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86400" y="4800600"/>
            <a:ext cx="1447920" cy="228600"/>
          </a:xfrm>
          <a:prstGeom prst="leftRightArrow">
            <a:avLst>
              <a:gd name="adj1" fmla="val 50000"/>
              <a:gd name="adj2" fmla="val 12609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3640" y="1890000"/>
            <a:ext cx="31658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- Internet (HTTP over TCP/I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101080" y="3352680"/>
            <a:ext cx="10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Security at a G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962520"/>
            <a:ext cx="6477120" cy="23619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Networks (Layers 1-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thernet, Token Ring, Wireless, AT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 Relay, X.25, FDDI, and many mor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48520" y="3200400"/>
            <a:ext cx="402588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ssion Control Protocol (T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 Protocol (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yers (3-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676520"/>
            <a:ext cx="7772400" cy="15238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ata, Voice, Vide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4191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70400" y="4433760"/>
            <a:ext cx="107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86240" y="3173400"/>
            <a:ext cx="10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3124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ewall Policies and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ing versus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ing not strong enough for sensitive data (e.g., financial dat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xies must be controlled care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need 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use a DMZ or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hould be in DM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ewalls policies need to be established and monitored carefu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ewalls only protect end-poi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transmission 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Availability Versus Security Tradeoffs in Corporate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deoffs between security and availability must be considered while architecting a network security solu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undant network equipment can increase system availability but it also can introduce security exposur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example, redundant routers, cables, and access points should be protected as diligently as the primary network equip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gmentation, redundancy, and scattering (FRS) techniques employed to increase the security as well as availability of software by fragmenting the messages and then routing them on multiple pat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04920" y="569880"/>
          <a:ext cx="7518240" cy="62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69880"/>
                    <a:ext cx="7518240" cy="62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749960" y="0"/>
            <a:ext cx="568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Network Security  -- LAN Secur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mote Network Access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te access is popular with several peopl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commuting employe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ling employe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ized partners and supplier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s who may need access to online order processing systems and order/trouble-ticket stat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and system administrators who may need to diagnose and correct network and computer system  problems without having to drive to wor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mote A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280" y="733320"/>
          <a:ext cx="8534520" cy="632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33320"/>
                    <a:ext cx="8534520" cy="63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Secur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2590920"/>
          <a:ext cx="7848720" cy="405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90920"/>
                    <a:ext cx="784872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58560" y="1108080"/>
            <a:ext cx="453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llection of TCP/IP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ublic Internet, Intranet, Extra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SPs and ISP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5800" y="804960"/>
          <a:ext cx="8458200" cy="571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04960"/>
                    <a:ext cx="8458200" cy="57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PN for Internet Securit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1066680"/>
            <a:ext cx="7337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 Private Networks (VP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that is sent over public infrastructure needs to be sec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rtual private networks are private networks (e.g. networks internal to corporations) that use public communication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the data before sending (symmetric ke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3886200"/>
            <a:ext cx="2438280" cy="2057400"/>
          </a:xfrm>
          <a:prstGeom prst="irregularSeal1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731880" cy="57456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1981080" y="4481640"/>
            <a:ext cx="1218600" cy="844560"/>
            <a:chOff x="1981080" y="4481640"/>
            <a:chExt cx="1218600" cy="844560"/>
          </a:xfrm>
        </p:grpSpPr>
        <p:grpSp>
          <p:nvGrpSpPr>
            <p:cNvPr id="71" name=""/>
            <p:cNvGrpSpPr/>
            <p:nvPr/>
          </p:nvGrpSpPr>
          <p:grpSpPr>
            <a:xfrm>
              <a:off x="1981080" y="4481640"/>
              <a:ext cx="1218600" cy="844560"/>
              <a:chOff x="1981080" y="4481640"/>
              <a:chExt cx="1218600" cy="844560"/>
            </a:xfrm>
          </p:grpSpPr>
          <p:sp>
            <p:nvSpPr>
              <p:cNvPr id="72" name=""/>
              <p:cNvSpPr/>
              <p:nvPr/>
            </p:nvSpPr>
            <p:spPr>
              <a:xfrm>
                <a:off x="2108880" y="4481640"/>
                <a:ext cx="1090800" cy="60984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981080" y="4977000"/>
                <a:ext cx="588600" cy="349200"/>
              </a:xfrm>
              <a:custGeom>
                <a:avLst/>
                <a:gdLst/>
                <a:ahLst/>
                <a:rect l="l" t="t" r="r" b="b"/>
                <a:pathLst>
                  <a:path w="285" h="220">
                    <a:moveTo>
                      <a:pt x="285" y="118"/>
                    </a:moveTo>
                    <a:cubicBezTo>
                      <a:pt x="251" y="91"/>
                      <a:pt x="224" y="66"/>
                      <a:pt x="183" y="51"/>
                    </a:cubicBezTo>
                    <a:cubicBezTo>
                      <a:pt x="142" y="36"/>
                      <a:pt x="97" y="40"/>
                      <a:pt x="60" y="15"/>
                    </a:cubicBezTo>
                    <a:cubicBezTo>
                      <a:pt x="57" y="10"/>
                      <a:pt x="56" y="0"/>
                      <a:pt x="50" y="0"/>
                    </a:cubicBezTo>
                    <a:cubicBezTo>
                      <a:pt x="40" y="0"/>
                      <a:pt x="35" y="33"/>
                      <a:pt x="34" y="36"/>
                    </a:cubicBezTo>
                    <a:cubicBezTo>
                      <a:pt x="26" y="64"/>
                      <a:pt x="14" y="96"/>
                      <a:pt x="3" y="123"/>
                    </a:cubicBezTo>
                    <a:cubicBezTo>
                      <a:pt x="5" y="140"/>
                      <a:pt x="0" y="160"/>
                      <a:pt x="9" y="174"/>
                    </a:cubicBezTo>
                    <a:cubicBezTo>
                      <a:pt x="22" y="195"/>
                      <a:pt x="113" y="215"/>
                      <a:pt x="137" y="220"/>
                    </a:cubicBezTo>
                    <a:cubicBezTo>
                      <a:pt x="163" y="218"/>
                      <a:pt x="189" y="220"/>
                      <a:pt x="214" y="215"/>
                    </a:cubicBezTo>
                    <a:cubicBezTo>
                      <a:pt x="227" y="212"/>
                      <a:pt x="281" y="125"/>
                      <a:pt x="285" y="1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2297160" y="4572000"/>
              <a:ext cx="79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local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267080" y="464832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ublic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924680" y="4495680"/>
            <a:ext cx="731880" cy="57492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6095880" y="4495680"/>
            <a:ext cx="1164600" cy="844560"/>
            <a:chOff x="6095880" y="4495680"/>
            <a:chExt cx="1164600" cy="844560"/>
          </a:xfrm>
        </p:grpSpPr>
        <p:grpSp>
          <p:nvGrpSpPr>
            <p:cNvPr id="78" name=""/>
            <p:cNvGrpSpPr/>
            <p:nvPr/>
          </p:nvGrpSpPr>
          <p:grpSpPr>
            <a:xfrm>
              <a:off x="6095880" y="4495680"/>
              <a:ext cx="1164600" cy="844560"/>
              <a:chOff x="6095880" y="4495680"/>
              <a:chExt cx="1164600" cy="844560"/>
            </a:xfrm>
          </p:grpSpPr>
          <p:sp>
            <p:nvSpPr>
              <p:cNvPr id="79" name=""/>
              <p:cNvSpPr/>
              <p:nvPr/>
            </p:nvSpPr>
            <p:spPr>
              <a:xfrm>
                <a:off x="6217920" y="4495680"/>
                <a:ext cx="1042560" cy="60984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95880" y="4991040"/>
                <a:ext cx="562680" cy="349200"/>
              </a:xfrm>
              <a:custGeom>
                <a:avLst/>
                <a:gdLst/>
                <a:ahLst/>
                <a:rect l="l" t="t" r="r" b="b"/>
                <a:pathLst>
                  <a:path w="285" h="220">
                    <a:moveTo>
                      <a:pt x="285" y="118"/>
                    </a:moveTo>
                    <a:cubicBezTo>
                      <a:pt x="251" y="91"/>
                      <a:pt x="224" y="66"/>
                      <a:pt x="183" y="51"/>
                    </a:cubicBezTo>
                    <a:cubicBezTo>
                      <a:pt x="142" y="36"/>
                      <a:pt x="97" y="40"/>
                      <a:pt x="60" y="15"/>
                    </a:cubicBezTo>
                    <a:cubicBezTo>
                      <a:pt x="57" y="10"/>
                      <a:pt x="56" y="0"/>
                      <a:pt x="50" y="0"/>
                    </a:cubicBezTo>
                    <a:cubicBezTo>
                      <a:pt x="40" y="0"/>
                      <a:pt x="35" y="33"/>
                      <a:pt x="34" y="36"/>
                    </a:cubicBezTo>
                    <a:cubicBezTo>
                      <a:pt x="26" y="64"/>
                      <a:pt x="14" y="96"/>
                      <a:pt x="3" y="123"/>
                    </a:cubicBezTo>
                    <a:cubicBezTo>
                      <a:pt x="5" y="140"/>
                      <a:pt x="0" y="160"/>
                      <a:pt x="9" y="174"/>
                    </a:cubicBezTo>
                    <a:cubicBezTo>
                      <a:pt x="22" y="195"/>
                      <a:pt x="113" y="215"/>
                      <a:pt x="137" y="220"/>
                    </a:cubicBezTo>
                    <a:cubicBezTo>
                      <a:pt x="163" y="218"/>
                      <a:pt x="189" y="220"/>
                      <a:pt x="214" y="215"/>
                    </a:cubicBezTo>
                    <a:cubicBezTo>
                      <a:pt x="227" y="212"/>
                      <a:pt x="281" y="125"/>
                      <a:pt x="285" y="1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6397560" y="4586040"/>
              <a:ext cx="758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local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rot="2391600">
            <a:off x="1623960" y="3933360"/>
            <a:ext cx="814320" cy="790560"/>
          </a:xfrm>
          <a:custGeom>
            <a:avLst/>
            <a:gdLst>
              <a:gd name="textAreaLeft" fmla="*/ 0 w 814320"/>
              <a:gd name="textAreaRight" fmla="*/ 814680 w 81432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950" stAng="10800000" swAng="5400000"/>
                <a:lnTo>
                  <a:pt x="14905" y="3210"/>
                </a:lnTo>
                <a:lnTo>
                  <a:pt x="14905" y="0"/>
                </a:lnTo>
                <a:lnTo>
                  <a:pt x="21600" y="6079"/>
                </a:lnTo>
                <a:lnTo>
                  <a:pt x="14905" y="12158"/>
                </a:lnTo>
                <a:lnTo>
                  <a:pt x="14905" y="8948"/>
                </a:lnTo>
                <a:lnTo>
                  <a:pt x="12427" y="8948"/>
                </a:lnTo>
                <a:arcTo wR="6689" hR="3212" stAng="16200000" swAng="-5400000"/>
                <a:lnTo>
                  <a:pt x="5738" y="21600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391600">
            <a:off x="7162920" y="3885840"/>
            <a:ext cx="814320" cy="790560"/>
          </a:xfrm>
          <a:custGeom>
            <a:avLst/>
            <a:gdLst>
              <a:gd name="textAreaLeft" fmla="*/ 0 w 814320"/>
              <a:gd name="textAreaRight" fmla="*/ 814680 w 81432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950" stAng="10800000" swAng="5400000"/>
                <a:lnTo>
                  <a:pt x="14905" y="3210"/>
                </a:lnTo>
                <a:lnTo>
                  <a:pt x="14905" y="0"/>
                </a:lnTo>
                <a:lnTo>
                  <a:pt x="21600" y="6079"/>
                </a:lnTo>
                <a:lnTo>
                  <a:pt x="14905" y="12158"/>
                </a:lnTo>
                <a:lnTo>
                  <a:pt x="14905" y="8948"/>
                </a:lnTo>
                <a:lnTo>
                  <a:pt x="12427" y="8948"/>
                </a:lnTo>
                <a:arcTo wR="6689" hR="3212" stAng="16200000" swAng="-5400000"/>
                <a:lnTo>
                  <a:pt x="5738" y="21600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 rot="19208400">
            <a:off x="2769840" y="4970160"/>
            <a:ext cx="814320" cy="942480"/>
          </a:xfrm>
          <a:custGeom>
            <a:avLst/>
            <a:gdLst>
              <a:gd name="textAreaLeft" fmla="*/ 0 w 814320"/>
              <a:gd name="textAreaRight" fmla="*/ 814680 w 814320"/>
              <a:gd name="textAreaTop" fmla="*/ 360 h 942480"/>
              <a:gd name="textAreaBottom" fmla="*/ 943200 h 942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950" stAng="10800000" swAng="5400000"/>
                <a:lnTo>
                  <a:pt x="14905" y="3210"/>
                </a:lnTo>
                <a:lnTo>
                  <a:pt x="14905" y="0"/>
                </a:lnTo>
                <a:lnTo>
                  <a:pt x="21600" y="6079"/>
                </a:lnTo>
                <a:lnTo>
                  <a:pt x="14905" y="12158"/>
                </a:lnTo>
                <a:lnTo>
                  <a:pt x="14905" y="8948"/>
                </a:lnTo>
                <a:lnTo>
                  <a:pt x="12427" y="8948"/>
                </a:lnTo>
                <a:arcTo wR="6689" hR="3212" stAng="16200000" swAng="-5400000"/>
                <a:lnTo>
                  <a:pt x="5738" y="216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 rot="19208400">
            <a:off x="5867280" y="5029200"/>
            <a:ext cx="814680" cy="790560"/>
          </a:xfrm>
          <a:custGeom>
            <a:avLst/>
            <a:gdLst>
              <a:gd name="textAreaLeft" fmla="*/ 0 w 814680"/>
              <a:gd name="textAreaRight" fmla="*/ 815040 w 814680"/>
              <a:gd name="textAreaTop" fmla="*/ 360 h 790560"/>
              <a:gd name="textAreaBottom" fmla="*/ 791280 h 790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950" stAng="10800000" swAng="5400000"/>
                <a:lnTo>
                  <a:pt x="14905" y="3210"/>
                </a:lnTo>
                <a:lnTo>
                  <a:pt x="14905" y="0"/>
                </a:lnTo>
                <a:lnTo>
                  <a:pt x="21600" y="6079"/>
                </a:lnTo>
                <a:lnTo>
                  <a:pt x="14905" y="12158"/>
                </a:lnTo>
                <a:lnTo>
                  <a:pt x="14905" y="8948"/>
                </a:lnTo>
                <a:lnTo>
                  <a:pt x="12427" y="8948"/>
                </a:lnTo>
                <a:arcTo wR="6689" hR="3212" stAng="16200000" swAng="-5400000"/>
                <a:lnTo>
                  <a:pt x="5738" y="216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57150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encrypted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8680" y="57150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encrypted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3657600"/>
            <a:ext cx="106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n-encrypted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365760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n-encrypted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Security Protocol (IPSe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838080"/>
            <a:ext cx="7337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3000"/>
          </a:bodyPr>
          <a:p>
            <a:pPr marL="181800" indent="-181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for VPN encryption (199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ecurity at the packet level (IP), instead of security at application layer - Part of IP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s and signs Headers and/or Data parts of IP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handled without requiring changes to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480" indent="-151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entire packet is encrypted, how will the routers know where to send info (destination addres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480" indent="-151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ination headers are not encrypted or duplicated (encrypted, non-encrypte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480" indent="-151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480" indent="-151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480" indent="-151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480" indent="-151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480" indent="-151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82680" y="6019920"/>
            <a:ext cx="59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uthenticate machines but not users -- too low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4T04:23:48Z</dcterms:created>
  <dc:creator>umar</dc:creator>
  <dc:description/>
  <dc:language>en-US</dc:language>
  <cp:lastModifiedBy>umar</cp:lastModifiedBy>
  <dcterms:modified xsi:type="dcterms:W3CDTF">2003-10-20T04:53:25Z</dcterms:modified>
  <cp:revision>24</cp:revision>
  <dc:subject/>
  <dc:title>No Slide Title</dc:title>
</cp:coreProperties>
</file>